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5.wmf" ContentType="image/x-wmf"/>
  <Override PartName="/ppt/media/image3.wmf" ContentType="image/x-wmf"/>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03F00-4C50-4E5A-A90B-846DBEE73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9586E-81A7-49A5-AD15-F8A99429F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BC84E-AA49-4570-9E4B-C7F8E3B97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20368-0CEE-4E94-AC8C-0EBB369AD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254D4-AE86-452D-AC3D-07E7EE9A0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E8D4D-C19E-4211-BD7F-358A85CFA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773F2-6592-4B6B-8078-4DC0D65E0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5DDA7-1C23-4AE5-9DED-B9C0564B6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707D1-EBFC-4866-97A5-8C26E0A2E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ECEF6-5B0D-4E3A-A978-DC2E6EE19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82DEE-7FCD-41BC-8FF4-0E0816AFD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FA933-1BAD-4766-92BF-8C2CEDDDE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BAF34-9D49-4A84-B66E-DAA77744C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3EBE5-4462-4DE5-A69D-0E5735EE8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24AF2-A70E-489F-AD0A-9FCD392A4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C8F8D-F79A-4771-A639-A5A9DF50B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D4375-AB7B-475E-83C9-F7727D3DE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85339-2615-439C-A666-86B0FF393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D3802-95DE-41B3-9BF2-8DF54463B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FB80B-7159-4181-AD04-EFEE87CC9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7D519-077C-4E06-95CA-63BDE65F3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8A29-333C-4CCD-9242-F8E35D68F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ECB01-E128-414E-B4F5-EB228A36F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EC3D-75E4-4C4F-840B-85D068B78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313D-8A0A-47EF-A701-83A42B9EBE0D}"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C485-4AB8-4025-89A1-618323A2C2E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cc"/>
                </a:solidFill>
                <a:latin typeface="Arial"/>
              </a:rPr>
              <a:t>All in the Family</a:t>
            </a: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t Portfolio Presentation</a:t>
            </a: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ate Yaun </a:t>
            </a:r>
            <a:endParaRPr b="0" lang="en-US" sz="3200" spc="-1" strike="noStrike">
              <a:solidFill>
                <a:srgbClr val="eaeaea"/>
              </a:solidFill>
              <a:latin typeface="Verdana"/>
            </a:endParaRPr>
          </a:p>
        </p:txBody>
      </p:sp>
      <p:pic>
        <p:nvPicPr>
          <p:cNvPr id="116" name="" descr=""/>
          <p:cNvPicPr/>
          <p:nvPr/>
        </p:nvPicPr>
        <p:blipFill>
          <a:blip r:embed="rId1"/>
          <a:stretch/>
        </p:blipFill>
        <p:spPr>
          <a:xfrm>
            <a:off x="2971800" y="152280"/>
            <a:ext cx="3505320" cy="2200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8"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 this unit, students will engage in a variety of activities, including how different organisms change as they grow and mature. Each group will create its own Microsoft Movie Maker slideshow on the life cycle of a butterfly and present it to the class. They will use their ability to observe, record information, and apply it to telling time and measurement in mathematics. Students will also be responsible for researching, and the documentation of their life cycle diary. </a:t>
            </a:r>
            <a:endParaRPr b="0" lang="en-US" sz="2400" spc="-1" strike="noStrike">
              <a:solidFill>
                <a:srgbClr val="eaeaea"/>
              </a:solidFill>
              <a:latin typeface="Verdana"/>
            </a:endParaRPr>
          </a:p>
        </p:txBody>
      </p:sp>
      <p:pic>
        <p:nvPicPr>
          <p:cNvPr id="121" name="" descr=""/>
          <p:cNvPicPr/>
          <p:nvPr/>
        </p:nvPicPr>
        <p:blipFill>
          <a:blip r:embed="rId1"/>
          <a:stretch/>
        </p:blipFill>
        <p:spPr>
          <a:xfrm>
            <a:off x="7010280" y="5029200"/>
            <a:ext cx="1676520" cy="1494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ssential Question </a:t>
            </a:r>
            <a:br>
              <a:rPr sz="2800"/>
            </a:br>
            <a:r>
              <a:rPr b="0" lang="en-US" sz="2800" spc="-1" strike="noStrike">
                <a:solidFill>
                  <a:srgbClr val="eaeaea"/>
                </a:solidFill>
                <a:latin typeface="Verdana"/>
              </a:rPr>
              <a:t>Are all living things related</a:t>
            </a:r>
            <a:r>
              <a:rPr b="0" lang="en-US" sz="2400" spc="-1" strike="noStrike">
                <a:solidFill>
                  <a:srgbClr val="eaeaea"/>
                </a:solidFill>
                <a:latin typeface="Verdana"/>
              </a:rPr>
              <a:t>?</a:t>
            </a:r>
            <a:endParaRPr b="0" lang="en-US" sz="24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Unit Questions</a:t>
            </a:r>
            <a:br>
              <a:rPr sz="2800"/>
            </a:br>
            <a:r>
              <a:rPr b="0" lang="en-US" sz="2000" spc="-1" strike="noStrike">
                <a:solidFill>
                  <a:srgbClr val="eaeaea"/>
                </a:solidFill>
                <a:latin typeface="Verdana"/>
              </a:rPr>
              <a:t>How do living things grow in different ways?</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can I manipulate technology to document a life cycle?</a:t>
            </a:r>
            <a:endParaRPr b="0" lang="en-US" sz="20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do they compare to one another?</a:t>
            </a:r>
            <a:r>
              <a:rPr b="1"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ontent Questions</a:t>
            </a:r>
            <a:endParaRPr b="0" lang="en-US" sz="2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a life cycle of a butterfly?</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life cycle of a frog?</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life cycle of a dragonfly?</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ow do sea turtles grow and change?</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can be used to measure the life cycle?</a:t>
            </a:r>
            <a:endParaRPr b="0" lang="en-US" sz="24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24" name="" descr=""/>
          <p:cNvPicPr/>
          <p:nvPr/>
        </p:nvPicPr>
        <p:blipFill>
          <a:blip r:embed="rId1"/>
          <a:stretch/>
        </p:blipFill>
        <p:spPr>
          <a:xfrm>
            <a:off x="6781680" y="3657600"/>
            <a:ext cx="184968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fe Cycle Project</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106524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7" name=""/>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municating with others in a newsletter.</a:t>
            </a:r>
            <a:endParaRPr b="0" lang="en-US" sz="2400" spc="-1" strike="noStrike">
              <a:solidFill>
                <a:srgbClr val="eaeaea"/>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28" name="" descr=""/>
          <p:cNvPicPr/>
          <p:nvPr/>
        </p:nvPicPr>
        <p:blipFill>
          <a:blip r:embed="rId1"/>
          <a:stretch/>
        </p:blipFill>
        <p:spPr>
          <a:xfrm>
            <a:off x="3429000" y="4379760"/>
            <a:ext cx="1933560" cy="247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32508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30" name=""/>
          <p:cNvSpPr/>
          <p:nvPr/>
        </p:nvSpPr>
        <p:spPr>
          <a:xfrm>
            <a:off x="1371600" y="1295280"/>
            <a:ext cx="716292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life cycle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technology. (Digital Camera, Microsoft programs and SMARTBOARD).</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ill ask students to find relationships and draw conclusions about life cycle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confusion with the technology being used, I can provide more opportunities to practice to become more comfortable with the selected technology.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more support with Microsoft movie maker. I came across some difficulties that took some time to figure out. That would make me more comfortable for when I need to teach it to 2</a:t>
            </a:r>
            <a:r>
              <a:rPr b="0" lang="en-US" sz="1800" spc="-1" strike="noStrike" baseline="30000">
                <a:solidFill>
                  <a:srgbClr val="eaeaea"/>
                </a:solidFill>
                <a:latin typeface="Garamond"/>
                <a:ea typeface="Arial"/>
              </a:rPr>
              <a:t>nd</a:t>
            </a:r>
            <a:r>
              <a:rPr b="0" lang="en-US" sz="1800" spc="-1" strike="noStrike">
                <a:solidFill>
                  <a:srgbClr val="eaeaea"/>
                </a:solidFill>
                <a:latin typeface="Garamond"/>
                <a:ea typeface="Arial"/>
              </a:rPr>
              <a:t> graders. </a:t>
            </a:r>
            <a:endParaRPr b="0" lang="en-US" sz="1800" spc="-1" strike="noStrike">
              <a:solidFill>
                <a:srgbClr val="eaeaea"/>
              </a:solidFill>
              <a:latin typeface="Arial"/>
            </a:endParaRPr>
          </a:p>
        </p:txBody>
      </p:sp>
      <p:pic>
        <p:nvPicPr>
          <p:cNvPr id="131" name="" descr=""/>
          <p:cNvPicPr/>
          <p:nvPr/>
        </p:nvPicPr>
        <p:blipFill>
          <a:blip r:embed="rId1"/>
          <a:stretch/>
        </p:blipFill>
        <p:spPr>
          <a:xfrm>
            <a:off x="0" y="2286000"/>
            <a:ext cx="1843200" cy="181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pic>
        <p:nvPicPr>
          <p:cNvPr id="134" name="" descr=""/>
          <p:cNvPicPr/>
          <p:nvPr/>
        </p:nvPicPr>
        <p:blipFill>
          <a:blip r:embed="rId1"/>
          <a:stretch/>
        </p:blipFill>
        <p:spPr>
          <a:xfrm>
            <a:off x="2590920" y="4191120"/>
            <a:ext cx="3047760" cy="217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53960" y="50760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6" name="PlaceHolder 2"/>
          <p:cNvSpPr>
            <a:spLocks noGrp="1"/>
          </p:cNvSpPr>
          <p:nvPr>
            <p:ph/>
          </p:nvPr>
        </p:nvSpPr>
        <p:spPr>
          <a:xfrm>
            <a:off x="2286000" y="1828800"/>
            <a:ext cx="7238880" cy="452592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ork together to create a movie  presentation appropriate for a selected audienc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ther, analyze, organize, reflect, and process information about the life cycle of a butterfly.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e connections between themselves, and the lifecycles of other organisms in our world. </a:t>
            </a:r>
            <a:endParaRPr b="0" lang="en-US" sz="2800" spc="-1" strike="noStrike">
              <a:solidFill>
                <a:srgbClr val="eaeaea"/>
              </a:solidFill>
              <a:latin typeface="Verdana"/>
            </a:endParaRPr>
          </a:p>
        </p:txBody>
      </p:sp>
      <p:pic>
        <p:nvPicPr>
          <p:cNvPr id="137" name="" descr=""/>
          <p:cNvPicPr/>
          <p:nvPr/>
        </p:nvPicPr>
        <p:blipFill>
          <a:blip r:embed="rId1"/>
          <a:stretch/>
        </p:blipFill>
        <p:spPr>
          <a:xfrm>
            <a:off x="228600" y="2895480"/>
            <a:ext cx="1797120" cy="18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additional technology resources that could be used in comparison to Microsoft Movie Mak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 animals that </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uld be used in our classroom </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r following a life cycl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0" name="" descr=""/>
          <p:cNvPicPr/>
          <p:nvPr/>
        </p:nvPicPr>
        <p:blipFill>
          <a:blip r:embed="rId1"/>
          <a:stretch/>
        </p:blipFill>
        <p:spPr>
          <a:xfrm>
            <a:off x="7315200" y="4343400"/>
            <a:ext cx="1828800" cy="204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yaun</cp:lastModifiedBy>
  <dcterms:modified xsi:type="dcterms:W3CDTF">2010-09-01T13:55:37Z</dcterms:modified>
  <cp:revision>27</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